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18B8-5A56-4A19-90C0-EA62876C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07FF-230B-4A28-89CB-5967431D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8CEC-3D97-47CE-9F6C-988D4BEF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1378-CF4C-4B08-B79E-D9FE933F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EF21-375E-44A6-9BDC-72620722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695C-A7BC-421D-A27C-343771EB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754F-29D2-4457-975B-54AD3C19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6A37-7077-404E-A622-7FF18483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01D5-2297-4081-9293-9736107C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503E-ED88-4FFD-BDF9-2F1245A9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4F50-6D22-42BD-A0E4-CBBA516F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256E-0889-40BD-BB24-0B749683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4611-EB48-404B-8550-C8998A60DE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76320"/>
            <a:ext cx="5791320" cy="396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3372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32767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1447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1447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724280"/>
            <a:ext cx="57913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79246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6095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6095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6095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095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timbre" descr=""/>
          <p:cNvPicPr/>
          <p:nvPr/>
        </p:nvPicPr>
        <p:blipFill>
          <a:blip r:embed="rId1"/>
          <a:stretch/>
        </p:blipFill>
        <p:spPr>
          <a:xfrm>
            <a:off x="5105520" y="228600"/>
            <a:ext cx="74268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timbre" descr=""/>
          <p:cNvPicPr/>
          <p:nvPr/>
        </p:nvPicPr>
        <p:blipFill>
          <a:blip r:embed="rId2"/>
          <a:stretch/>
        </p:blipFill>
        <p:spPr>
          <a:xfrm>
            <a:off x="5105520" y="4876920"/>
            <a:ext cx="742680" cy="914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43240" y="4191120"/>
            <a:ext cx="27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nnexe 21 et 22 (enveloppes 1 et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6120" y="1720800"/>
            <a:ext cx="248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r DE VALMONT Char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96200" y="2133720"/>
            <a:ext cx="27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8, Avenue des Champs Elys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0948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1440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2880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2388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1896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40280" y="297180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560" y="8839080"/>
            <a:ext cx="19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nnexe 38 (enveloppe 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0948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1440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1896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2388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2880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36960" y="6400800"/>
            <a:ext cx="24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r FERGUSON Alexand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7680" y="6858000"/>
            <a:ext cx="27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8, Avenue des Champs Elys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5800" y="762012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76320"/>
            <a:ext cx="5791320" cy="396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29718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32767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1447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1447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4724280"/>
            <a:ext cx="57913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7620120"/>
            <a:ext cx="228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79246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6095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6095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6095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5000" y="6095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timbre" descr=""/>
          <p:cNvPicPr/>
          <p:nvPr/>
        </p:nvPicPr>
        <p:blipFill>
          <a:blip r:embed="rId1"/>
          <a:stretch/>
        </p:blipFill>
        <p:spPr>
          <a:xfrm>
            <a:off x="5105520" y="228600"/>
            <a:ext cx="742680" cy="914400"/>
          </a:xfrm>
          <a:prstGeom prst="rect">
            <a:avLst/>
          </a:prstGeom>
          <a:ln w="0">
            <a:noFill/>
          </a:ln>
        </p:spPr>
      </p:pic>
      <p:pic>
        <p:nvPicPr>
          <p:cNvPr id="106" name="timbre" descr=""/>
          <p:cNvPicPr/>
          <p:nvPr/>
        </p:nvPicPr>
        <p:blipFill>
          <a:blip r:embed="rId2"/>
          <a:stretch/>
        </p:blipFill>
        <p:spPr>
          <a:xfrm>
            <a:off x="5105520" y="4876920"/>
            <a:ext cx="74268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45400" y="4191120"/>
            <a:ext cx="19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nnexe 18 (enveloppe 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5400" y="1720800"/>
            <a:ext cx="248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me DE VALMONT A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96200" y="2133720"/>
            <a:ext cx="27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8, Avenue des Champs Elys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0948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1440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2880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2388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1896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40280" y="297180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9920" y="8839080"/>
            <a:ext cx="190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nnexe 9 (enveloppe 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0948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1440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1896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2388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28800" y="760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8040" y="6400800"/>
            <a:ext cx="26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me DE VALMONT Soph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7680" y="6858000"/>
            <a:ext cx="27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8, Avenue des Champs Elys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1T18:21:40Z</dcterms:created>
  <dc:creator>HP, client autorisé</dc:creator>
  <dc:description/>
  <dc:language>en-US</dc:language>
  <cp:lastModifiedBy>HP, client autorisé</cp:lastModifiedBy>
  <dcterms:modified xsi:type="dcterms:W3CDTF">2001-12-02T02:01:01Z</dcterms:modified>
  <cp:revision>12</cp:revision>
  <dc:subject/>
  <dc:title>Présentation PowerPoint</dc:title>
</cp:coreProperties>
</file>