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FE55-E35F-4610-9503-F7A2EC5D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66C-CAE5-4E46-8C65-10FE6808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78A-F8B6-499F-87C6-5223101D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2986-E5C3-4F62-A348-F4C1D56F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DB2-7ABB-4BA5-8267-B46E7EBF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338-342E-4F42-86E8-D1E522A5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2E0C-BF75-482A-AFC1-8C24175B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38E-E35F-45FA-8108-4DC898BC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960-4189-4CF3-8CC2-B643618A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D27-4604-406B-9F72-D043A1DD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065-F650-41CE-955D-329711D0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42F-4995-4ACA-ADF7-D1349850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A627-D9C4-42D7-B420-9D7720B3F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76320"/>
            <a:ext cx="579132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2767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57913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7924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6095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timbre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74268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timbre" descr=""/>
          <p:cNvPicPr/>
          <p:nvPr/>
        </p:nvPicPr>
        <p:blipFill>
          <a:blip r:embed="rId2"/>
          <a:stretch/>
        </p:blipFill>
        <p:spPr>
          <a:xfrm>
            <a:off x="5105520" y="4876920"/>
            <a:ext cx="742680" cy="91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3240" y="4191120"/>
            <a:ext cx="27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e 21 et 22 (enveloppes 1 et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5760" y="1720800"/>
            <a:ext cx="24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. Charles DE VALM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3800" y="21337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, rue Boil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094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144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288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238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1896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028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560" y="8839080"/>
            <a:ext cx="19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e 38 (enveloppe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094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144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1896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238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288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640080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. Alexandre FERGU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6080" y="685800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, rue Boil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5800" y="76201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76320"/>
            <a:ext cx="579132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32767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724280"/>
            <a:ext cx="57913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7924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6095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timbre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74268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timbre" descr=""/>
          <p:cNvPicPr/>
          <p:nvPr/>
        </p:nvPicPr>
        <p:blipFill>
          <a:blip r:embed="rId2"/>
          <a:stretch/>
        </p:blipFill>
        <p:spPr>
          <a:xfrm>
            <a:off x="5105520" y="4876920"/>
            <a:ext cx="74268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45400" y="4191120"/>
            <a:ext cx="19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e 18 (enveloppe 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5400" y="172080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lle Anne DE VALM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213372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, rue Boil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094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144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288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238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1896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4028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9920" y="8839080"/>
            <a:ext cx="190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exe 9 (enveloppe 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094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144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1896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238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288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8040" y="6400800"/>
            <a:ext cx="25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lle Sophie DE VALM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22400" y="685800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, rue Boil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8:21:40Z</dcterms:created>
  <dc:creator>HP, client autorisé</dc:creator>
  <dc:description/>
  <dc:language>en-US</dc:language>
  <cp:lastModifiedBy>Phil</cp:lastModifiedBy>
  <dcterms:modified xsi:type="dcterms:W3CDTF">2007-03-24T12:33:52Z</dcterms:modified>
  <cp:revision>14</cp:revision>
  <dc:subject/>
  <dc:title>Présentation PowerPoint</dc:title>
</cp:coreProperties>
</file>